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A29-20AB-4551-B099-D713F34E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3BD-2163-4131-AB40-52E7B528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C9D-9EB5-4760-90B8-ECF81CF2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8EF-2F6A-40E4-B494-9C124AFC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FA4-678A-4AC9-BEAF-6E05BB66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27F-922A-4997-AF41-C8EA334D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C7D-E0A4-4512-AA79-D1A82673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5A4-E377-46C4-8246-CD31C5A2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FEB-76B6-4102-A2EC-F710514F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E66-A055-439B-8F86-22A73A85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32C-0FCF-4DF0-88BF-06C71FD0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B8D-730B-4201-A6C2-F137585E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3A6B-F2AB-43E9-82ED-0C589BC65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86600" y="525312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66680"/>
            <a:ext cx="7696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</a:t>
            </a:r>
            <a:endParaRPr b="0" lang="en-US" sz="1800" spc="1" strike="noStrike">
              <a:ln w="12600">
                <a:solidFill>
                  <a:srgbClr val="ff66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4800600"/>
            <a:ext cx="342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Robert 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playmus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434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2395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35812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what Robert Cade created Gato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orad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,9,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1357200" cy="18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15200" y="4419720"/>
            <a:ext cx="13572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born in 1927 in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rked as a medical researcher for the University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e called the drink Gatorade and the collages football team is now called the “The Gator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e bought Stokely van camp in 198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s working with medical things and has become a professor of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orade refueled the football players and gave them mor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helpful because then they could still play hard in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this was a major house hold name : Gatora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29000" y="4419720"/>
            <a:ext cx="2027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1:55Z</dcterms:created>
  <dc:creator>install</dc:creator>
  <dc:description/>
  <dc:language>en-US</dc:language>
  <cp:lastModifiedBy>install</cp:lastModifiedBy>
  <dcterms:modified xsi:type="dcterms:W3CDTF">2010-03-22T16:06:30Z</dcterms:modified>
  <cp:revision>9</cp:revision>
  <dc:subject/>
  <dc:title>Slide 1</dc:title>
</cp:coreProperties>
</file>